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C24-C180-4221-8674-E7D92804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88A-ED20-44FB-A6D4-0D1048CB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24A-E36C-4F98-B445-91E79CC1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DBA-04FA-4F39-8D3E-26F34274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DE40-2236-4D64-B74B-30355445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5914-DD7A-4276-9125-CB38DC2E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AD8D-38C1-4F0D-A261-405B5FCD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4C08-F737-4152-A28B-54862FD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656-9237-4A60-A112-9C3A1DE5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E8D3-3CCA-497C-A5EB-459149EC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09F2-DAF8-4ED3-BACC-B630A93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52E-290B-4C81-9499-352A570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B936-1A34-48AB-8ADC-1671CF2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CC68-691E-46C2-B9A7-1708E2E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9724-FB5F-4CC9-B3C1-99819579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5E3-A9EC-4BCF-86C6-A5934A67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0311-2996-49AA-B72D-3F1BEEA7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4D72-A5E5-4009-BF40-4F2EB6F6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ECBE-8613-456B-859C-EBC5AFA4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FBFE-2639-4C42-B671-2B3122DE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E2FA-A0CF-4934-BB2C-01F339EB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DD93-9F49-46F4-BA30-423364AF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D8C-520F-4CD7-B139-6CD0003A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E5E1-0213-4A75-A3B1-D6C245B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10DE-0B59-49CE-B66D-E04A619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195E-4AC6-40BB-BC16-20D664D1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C0F7-263E-49E3-92ED-5F85993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715F-4FE8-4298-BBA9-1DE135BF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920F-AA80-4313-ABE2-FB0C026A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5C27-C412-4AB8-83D2-578723B8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78E7-C469-43FD-A1C7-EB6DD6F4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6A5A4-B398-4474-932D-75DFA66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B6B8-0577-49DD-888E-7F5784A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449-2993-4774-AD9B-52E8C03A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6C7E-C5ED-4744-BE84-D5D7B0E9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8596-1945-4A6D-9144-92164359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1705-D98E-45F0-87FC-A50A94EE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0E98-BC8E-4241-8E8D-76E2B00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2B0D-941F-413A-9AD4-5887120B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808E-3D01-43F2-8696-A69E740B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6163-C28C-4221-9E61-D19BC6C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389E-B695-4145-9198-1B02552D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6A8C9-904D-4151-BAFD-BFB739C2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6BB-1F6A-4BC3-9C0D-6838D68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466-EA37-49B2-855C-4E3F5FE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995-B4E3-46BC-A228-8C8249C6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18E-0E73-40D5-884E-366C7FA1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496-5A8A-44B0-9F20-FEC0A7E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B569-4492-4B50-8E76-C050E87C2C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0053-D891-4649-A018-54A082269D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A49A-A262-4773-86E3-2DE0F895140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82E9-27D1-4D66-8CBB-46F638A34B1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8589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 помощью координат нарисуйте фигуры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3); (0; 3); (-3; 2); (-5;2); (-7;4); (-8;3); (-7;1); (-8;-1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-7;-2); (-5;0); (-1;-2); (0;-4); (2;-4); (3;-2); (5;-2); (7;0); (5;2); (3;3); (2;4); (-3;4); (-4;2); глаз(5;0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8" descr="BD13772_"/>
          <p:cNvPicPr/>
          <p:nvPr/>
        </p:nvPicPr>
        <p:blipFill>
          <a:blip r:embed="rId1"/>
          <a:stretch/>
        </p:blipFill>
        <p:spPr>
          <a:xfrm>
            <a:off x="214200" y="428616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Рисунок12"/>
          <p:cNvPicPr/>
          <p:nvPr/>
        </p:nvPicPr>
        <p:blipFill>
          <a:blip r:embed="rId2"/>
          <a:stretch/>
        </p:blipFill>
        <p:spPr>
          <a:xfrm>
            <a:off x="2857680" y="3286080"/>
            <a:ext cx="5638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0); (1; 2); (-1;2); (3;5); (1;7); (-3;6); (-5;7); (-3;4); (-6;3); (-3;3);    (-5;2); (-5;-2); (-2;-3); (-4;-4); (1;-4); (3;-3); (6;1); (3;0); глаз (-1;5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2" descr="J0213513"/>
          <p:cNvPicPr/>
          <p:nvPr/>
        </p:nvPicPr>
        <p:blipFill>
          <a:blip r:embed="rId1"/>
          <a:stretch/>
        </p:blipFill>
        <p:spPr>
          <a:xfrm>
            <a:off x="642960" y="5214960"/>
            <a:ext cx="17524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Рисунок13"/>
          <p:cNvPicPr/>
          <p:nvPr/>
        </p:nvPicPr>
        <p:blipFill>
          <a:blip r:embed="rId2"/>
          <a:stretch/>
        </p:blipFill>
        <p:spPr>
          <a:xfrm>
            <a:off x="2928960" y="2214720"/>
            <a:ext cx="55627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ai</cp:lastModifiedBy>
  <dcterms:modified xsi:type="dcterms:W3CDTF">2011-06-01T13:35:50Z</dcterms:modified>
  <cp:revision>2</cp:revision>
  <dc:subject/>
  <dc:title>Фигуры по координатам</dc:title>
</cp:coreProperties>
</file>